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764-4665-4B31-B53C-44C6DA42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BEF-1F80-4C3A-95E7-F45F375F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058-74E3-494C-908B-74D682E2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D6E-695F-4375-8AA8-0156EF85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7576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346-95C3-4CA6-9544-797439C6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0579-58D3-4ED9-881A-33411E1116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A97E-ABD3-4C87-92ED-1E5550AE71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45EA-4497-4A59-83F2-AA1326CAFD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69D7-1C2C-485D-A8FA-51BD3B63A2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BC10-A7C2-4EFC-83CE-4A6EB4067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38F-DC48-4B2F-BFCB-EFB18AC8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7576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1596-DAB0-4332-A796-D6EDEC83F7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9507-CE81-41A7-B3B2-08F3B82058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7E5F-98D6-4454-9F70-CA143FF7EA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86AC-48C2-4EE8-9FCC-6701D85CED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FCD5-DD45-4B48-B290-47D291D355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A856-8A43-4A6B-824B-0B58381961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6419-06B4-471E-BE7B-85203EFFA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F50-1B81-4FAF-A193-519F9C8E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44F-7346-41F7-937B-6B7C2F1F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37576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6C1-59FB-4D7A-ACC3-16C43ECA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C54-446A-4C56-B0DE-33AF052E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ACD-6772-4EAD-9CB3-43086C1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3F5-D6B4-46A9-9943-0554E7CA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F02C-3372-4516-839A-688A7D7FF3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36DD-DE25-4BE2-9B3B-254EC6626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DDE6-593B-4F6B-A3FF-63122C780B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352000" y="6369120"/>
            <a:ext cx="411120" cy="336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35053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0D6D-4917-4F0F-AB89-60FA2B626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ptimal Basebal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Rakesh Dugg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aniel Min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Michael Pollac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Michael Senn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ptim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is te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5FD5-D405-44A6-B9B0-549F1F5CA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0880" y="990720"/>
            <a:ext cx="2743200" cy="685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SPN power ranking is one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200400" y="990720"/>
            <a:ext cx="2743200" cy="685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del approach ha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80880" y="1752480"/>
            <a:ext cx="2743200" cy="2133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arge sample bias with high potential for skewed data due to statistics based on on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yer rankings are based on fantasy statistics, not metrics to identify MV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ielder rankings are based on offensive stats and do not include fielding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0400" y="1752480"/>
            <a:ext cx="2743200" cy="2133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ntangibles (attitude, leadership, drug use) are unac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odel favors younger super star players with high ranks and low sa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yer rank favors starters and closers, leaving out rel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mall subset of statistics were used to deriv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6019920" y="990720"/>
            <a:ext cx="2743200" cy="685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mal focuses on players, not team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6019920" y="1752480"/>
            <a:ext cx="2743200" cy="21337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am composition does not take into account team dynamics and posi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am style and divisional opponents style are not taken into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5"/>
          <p:cNvGrpSpPr/>
          <p:nvPr/>
        </p:nvGrpSpPr>
        <p:grpSpPr>
          <a:xfrm>
            <a:off x="1067040" y="3622680"/>
            <a:ext cx="3060000" cy="2133360"/>
            <a:chOff x="1067040" y="3622680"/>
            <a:chExt cx="3060000" cy="2133360"/>
          </a:xfrm>
        </p:grpSpPr>
        <p:sp>
          <p:nvSpPr>
            <p:cNvPr id="246" name="AutoShape 5"/>
            <p:cNvSpPr/>
            <p:nvPr/>
          </p:nvSpPr>
          <p:spPr>
            <a:xfrm rot="389400">
              <a:off x="1149120" y="3975480"/>
              <a:ext cx="2895480" cy="1622160"/>
            </a:xfrm>
            <a:prstGeom prst="foldedCorner">
              <a:avLst>
                <a:gd name="adj" fmla="val 33050"/>
              </a:avLst>
            </a:prstGeom>
            <a:solidFill>
              <a:srgbClr val="fd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73080" bIns="91440" anchor="t">
              <a:noAutofit/>
            </a:bodyPr>
            <a:p>
              <a:pPr marL="457200" indent="-111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alibri"/>
                </a:rPr>
                <a:t>Add  additional constrai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ge/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itching statistics/classif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atting statistics/classif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6" descr="j0398849"/>
            <p:cNvPicPr/>
            <p:nvPr/>
          </p:nvPicPr>
          <p:blipFill>
            <a:blip r:embed="rId1"/>
            <a:stretch/>
          </p:blipFill>
          <p:spPr>
            <a:xfrm>
              <a:off x="1219320" y="3622680"/>
              <a:ext cx="567000" cy="53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Group 16"/>
          <p:cNvGrpSpPr/>
          <p:nvPr/>
        </p:nvGrpSpPr>
        <p:grpSpPr>
          <a:xfrm>
            <a:off x="5105520" y="3699000"/>
            <a:ext cx="3060000" cy="2091960"/>
            <a:chOff x="5105520" y="3699000"/>
            <a:chExt cx="3060000" cy="2091960"/>
          </a:xfrm>
        </p:grpSpPr>
        <p:sp>
          <p:nvSpPr>
            <p:cNvPr id="249" name="AutoShape 5"/>
            <p:cNvSpPr/>
            <p:nvPr/>
          </p:nvSpPr>
          <p:spPr>
            <a:xfrm rot="389400">
              <a:off x="5187600" y="4010040"/>
              <a:ext cx="2895480" cy="1622520"/>
            </a:xfrm>
            <a:prstGeom prst="foldedCorner">
              <a:avLst>
                <a:gd name="adj" fmla="val 33050"/>
              </a:avLst>
            </a:prstGeom>
            <a:solidFill>
              <a:srgbClr val="fd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73080" bIns="91440" anchor="t">
              <a:noAutofit/>
            </a:bodyPr>
            <a:p>
              <a:pPr marL="457200" indent="-111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alibri"/>
                </a:rPr>
                <a:t>Improve Proje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orecast future rank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orecast future sala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111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orporate qualitative meas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6" descr="j0398849"/>
            <p:cNvPicPr/>
            <p:nvPr/>
          </p:nvPicPr>
          <p:blipFill>
            <a:blip r:embed="rId2"/>
            <a:stretch/>
          </p:blipFill>
          <p:spPr>
            <a:xfrm>
              <a:off x="5257800" y="3699000"/>
              <a:ext cx="567000" cy="53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Rectangle 14"/>
          <p:cNvSpPr/>
          <p:nvPr/>
        </p:nvSpPr>
        <p:spPr>
          <a:xfrm>
            <a:off x="380880" y="5791320"/>
            <a:ext cx="8382240" cy="6094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The point: significantly more metrics and factors need to be considered in devising the optimal t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2747880"/>
            <a:ext cx="7772400" cy="136224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9E3B-7B6D-47AC-A41A-D90AF345B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2362320"/>
          <a:ext cx="4419720" cy="213336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e probl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appro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 of 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 of model and sol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7947-D3F5-40D7-A259-36DF7C0DB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A653-C707-4013-ADE3-384660AD5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80880" y="1219320"/>
            <a:ext cx="8382240" cy="685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at is the best baseball roster we can have for the least total salary c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8"/>
          <p:cNvSpPr/>
          <p:nvPr/>
        </p:nvSpPr>
        <p:spPr>
          <a:xfrm>
            <a:off x="4533840" y="2255760"/>
            <a:ext cx="0" cy="384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0"/>
          <p:cNvSpPr/>
          <p:nvPr/>
        </p:nvSpPr>
        <p:spPr>
          <a:xfrm>
            <a:off x="1981080" y="4076640"/>
            <a:ext cx="4953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7010280" y="3809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1143000" y="3809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4014720" y="1905120"/>
            <a:ext cx="109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Sa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014720" y="5943600"/>
            <a:ext cx="109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Sa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9" descr="nyy.gif"/>
          <p:cNvPicPr/>
          <p:nvPr/>
        </p:nvPicPr>
        <p:blipFill>
          <a:blip r:embed="rId1"/>
          <a:stretch/>
        </p:blipFill>
        <p:spPr>
          <a:xfrm>
            <a:off x="6248520" y="21337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2" descr="nym.gif"/>
          <p:cNvPicPr/>
          <p:nvPr/>
        </p:nvPicPr>
        <p:blipFill>
          <a:blip r:embed="rId2"/>
          <a:stretch/>
        </p:blipFill>
        <p:spPr>
          <a:xfrm>
            <a:off x="3486240" y="2514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3" descr="was.gif"/>
          <p:cNvPicPr/>
          <p:nvPr/>
        </p:nvPicPr>
        <p:blipFill>
          <a:blip r:embed="rId3"/>
          <a:stretch/>
        </p:blipFill>
        <p:spPr>
          <a:xfrm>
            <a:off x="1981080" y="523872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4" descr="bal.gif"/>
          <p:cNvPicPr/>
          <p:nvPr/>
        </p:nvPicPr>
        <p:blipFill>
          <a:blip r:embed="rId4"/>
          <a:stretch/>
        </p:blipFill>
        <p:spPr>
          <a:xfrm>
            <a:off x="2514600" y="472428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139" name="Oval 26"/>
          <p:cNvSpPr/>
          <p:nvPr/>
        </p:nvSpPr>
        <p:spPr>
          <a:xfrm>
            <a:off x="6400800" y="5486400"/>
            <a:ext cx="762120" cy="6858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Callout 1 28"/>
          <p:cNvSpPr/>
          <p:nvPr/>
        </p:nvSpPr>
        <p:spPr>
          <a:xfrm>
            <a:off x="7620120" y="4572000"/>
            <a:ext cx="1143000" cy="838080"/>
          </a:xfrm>
          <a:prstGeom prst="borderCallout1">
            <a:avLst>
              <a:gd name="adj1" fmla="val 18750"/>
              <a:gd name="adj2" fmla="val -8333"/>
              <a:gd name="adj3" fmla="val 136949"/>
              <a:gd name="adj4" fmla="val -65921"/>
            </a:avLst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ferred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9" descr="BOS.gif"/>
          <p:cNvPicPr/>
          <p:nvPr/>
        </p:nvPicPr>
        <p:blipFill>
          <a:blip r:embed="rId5"/>
          <a:stretch/>
        </p:blipFill>
        <p:spPr>
          <a:xfrm>
            <a:off x="5705640" y="2886120"/>
            <a:ext cx="695160" cy="69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CHC.gif"/>
          <p:cNvPicPr/>
          <p:nvPr/>
        </p:nvPicPr>
        <p:blipFill>
          <a:blip r:embed="rId6"/>
          <a:stretch/>
        </p:blipFill>
        <p:spPr>
          <a:xfrm>
            <a:off x="5257800" y="3543480"/>
            <a:ext cx="1523880" cy="952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1" descr="col.gif"/>
          <p:cNvPicPr/>
          <p:nvPr/>
        </p:nvPicPr>
        <p:blipFill>
          <a:blip r:embed="rId7"/>
          <a:stretch/>
        </p:blipFill>
        <p:spPr>
          <a:xfrm>
            <a:off x="4562640" y="4105440"/>
            <a:ext cx="695160" cy="69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2" descr="DET.gif"/>
          <p:cNvPicPr/>
          <p:nvPr/>
        </p:nvPicPr>
        <p:blipFill>
          <a:blip r:embed="rId8"/>
          <a:stretch/>
        </p:blipFill>
        <p:spPr>
          <a:xfrm>
            <a:off x="4038480" y="3162240"/>
            <a:ext cx="152424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3" descr="laa.gif"/>
          <p:cNvPicPr/>
          <p:nvPr/>
        </p:nvPicPr>
        <p:blipFill>
          <a:blip r:embed="rId9"/>
          <a:stretch/>
        </p:blipFill>
        <p:spPr>
          <a:xfrm>
            <a:off x="6095880" y="312408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stl.gif"/>
          <p:cNvPicPr/>
          <p:nvPr/>
        </p:nvPicPr>
        <p:blipFill>
          <a:blip r:embed="rId10"/>
          <a:stretch/>
        </p:blipFill>
        <p:spPr>
          <a:xfrm>
            <a:off x="5257800" y="434340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6" descr="tex.gif"/>
          <p:cNvPicPr/>
          <p:nvPr/>
        </p:nvPicPr>
        <p:blipFill>
          <a:blip r:embed="rId11"/>
          <a:stretch/>
        </p:blipFill>
        <p:spPr>
          <a:xfrm>
            <a:off x="4952880" y="508644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approach is a five step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3603-AB33-436C-8D54-C438E5C2D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90600" y="1066680"/>
            <a:ext cx="18525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termine rating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322200" y="1004760"/>
            <a:ext cx="260280" cy="247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90600" y="4290840"/>
            <a:ext cx="18525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velop deci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355680" y="4219560"/>
            <a:ext cx="261720" cy="2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90600" y="3232080"/>
            <a:ext cx="18525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ean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355680" y="3165480"/>
            <a:ext cx="261720" cy="247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90600" y="2165400"/>
            <a:ext cx="18525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tract appropriat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355680" y="2111400"/>
            <a:ext cx="261720" cy="247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0600" y="5345280"/>
            <a:ext cx="18525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rive and rationalize the optimal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8"/>
          <p:cNvSpPr/>
          <p:nvPr/>
        </p:nvSpPr>
        <p:spPr>
          <a:xfrm>
            <a:off x="355680" y="5272200"/>
            <a:ext cx="261720" cy="247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514600" y="1066680"/>
            <a:ext cx="32004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stablish a set of criteria to base decision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0"/>
          <p:cNvSpPr/>
          <p:nvPr/>
        </p:nvSpPr>
        <p:spPr>
          <a:xfrm>
            <a:off x="2514600" y="2136600"/>
            <a:ext cx="32004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btain data on each player that will assist in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1"/>
          <p:cNvSpPr/>
          <p:nvPr/>
        </p:nvSpPr>
        <p:spPr>
          <a:xfrm>
            <a:off x="2514600" y="3205080"/>
            <a:ext cx="32004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nsure data is uniform and consistent for each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2514600" y="4275000"/>
            <a:ext cx="32004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velop an Excel model that considers our objective an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2514600" y="5345280"/>
            <a:ext cx="3200400" cy="9144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se the model to derive an optimal roster and assess its fea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 rot="389400">
            <a:off x="5833800" y="1206360"/>
            <a:ext cx="2895480" cy="914400"/>
          </a:xfrm>
          <a:prstGeom prst="foldedCorner">
            <a:avLst>
              <a:gd name="adj" fmla="val 33050"/>
            </a:avLst>
          </a:prstGeom>
          <a:solidFill>
            <a:srgbClr val="fde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73080" bIns="91440" anchor="t">
            <a:noAutofit/>
          </a:bodyPr>
          <a:p>
            <a:pPr marL="45720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iteria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111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09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111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layer ra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111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layer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j0398849"/>
          <p:cNvPicPr/>
          <p:nvPr/>
        </p:nvPicPr>
        <p:blipFill>
          <a:blip r:embed="rId1"/>
          <a:stretch/>
        </p:blipFill>
        <p:spPr>
          <a:xfrm>
            <a:off x="5834160" y="871560"/>
            <a:ext cx="433440" cy="4111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 rot="373200">
            <a:off x="5833800" y="2276640"/>
            <a:ext cx="2895480" cy="914400"/>
          </a:xfrm>
          <a:prstGeom prst="foldedCorner">
            <a:avLst>
              <a:gd name="adj" fmla="val 33050"/>
            </a:avLst>
          </a:prstGeom>
          <a:solidFill>
            <a:srgbClr val="fde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73080" bIns="91440" anchor="t">
            <a:noAutofit/>
          </a:bodyPr>
          <a:p>
            <a:pPr marL="345960" indent="-11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a Sourc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596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SPN Player 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596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09 Opening Day Sa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596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ports Illustrated Top C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 rot="373200">
            <a:off x="5833800" y="3344760"/>
            <a:ext cx="2895480" cy="914400"/>
          </a:xfrm>
          <a:prstGeom prst="foldedCorner">
            <a:avLst>
              <a:gd name="adj" fmla="val 33050"/>
            </a:avLst>
          </a:prstGeom>
          <a:solidFill>
            <a:srgbClr val="fde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73080" bIns="91440" anchor="t">
            <a:noAutofit/>
          </a:bodyPr>
          <a:p>
            <a:pPr marL="34596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 $400,000 for missing sa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5960" indent="-11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ign infield classification to players that are initially assigned multiple infield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 rot="373200">
            <a:off x="5833800" y="4414680"/>
            <a:ext cx="2895480" cy="914400"/>
          </a:xfrm>
          <a:prstGeom prst="foldedCorner">
            <a:avLst>
              <a:gd name="adj" fmla="val 33050"/>
            </a:avLst>
          </a:prstGeom>
          <a:solidFill>
            <a:srgbClr val="fde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73080" bIns="91440" anchor="t">
            <a:noAutofit/>
          </a:bodyPr>
          <a:p>
            <a:pPr marL="236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 Solver and Excel logic to consider constraints and determine if objective is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 rot="373200">
            <a:off x="5833800" y="5484960"/>
            <a:ext cx="2895480" cy="914400"/>
          </a:xfrm>
          <a:prstGeom prst="foldedCorner">
            <a:avLst>
              <a:gd name="adj" fmla="val 33050"/>
            </a:avLst>
          </a:prstGeom>
          <a:solidFill>
            <a:srgbClr val="fde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73080" bIns="91440" anchor="t">
            <a:noAutofit/>
          </a:bodyPr>
          <a:p>
            <a:pPr marL="236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ssess the solution to determine if it is logical.  Rationalize flaws and determine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398849"/>
          <p:cNvPicPr/>
          <p:nvPr/>
        </p:nvPicPr>
        <p:blipFill>
          <a:blip r:embed="rId2"/>
          <a:stretch/>
        </p:blipFill>
        <p:spPr>
          <a:xfrm>
            <a:off x="5834160" y="1968480"/>
            <a:ext cx="433440" cy="411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j0398849"/>
          <p:cNvPicPr/>
          <p:nvPr/>
        </p:nvPicPr>
        <p:blipFill>
          <a:blip r:embed="rId3"/>
          <a:stretch/>
        </p:blipFill>
        <p:spPr>
          <a:xfrm>
            <a:off x="5834160" y="3035160"/>
            <a:ext cx="433440" cy="41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j0398849"/>
          <p:cNvPicPr/>
          <p:nvPr/>
        </p:nvPicPr>
        <p:blipFill>
          <a:blip r:embed="rId4"/>
          <a:stretch/>
        </p:blipFill>
        <p:spPr>
          <a:xfrm>
            <a:off x="5834160" y="4148280"/>
            <a:ext cx="433440" cy="411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j0398849"/>
          <p:cNvPicPr/>
          <p:nvPr/>
        </p:nvPicPr>
        <p:blipFill>
          <a:blip r:embed="rId5"/>
          <a:stretch/>
        </p:blipFill>
        <p:spPr>
          <a:xfrm>
            <a:off x="5834160" y="5214960"/>
            <a:ext cx="433440" cy="41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models were developed for pitchers and fie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ECF5-02F9-4FDC-B05F-D0D8433F2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6"/>
          <p:cNvSpPr/>
          <p:nvPr/>
        </p:nvSpPr>
        <p:spPr>
          <a:xfrm>
            <a:off x="2317680" y="1190520"/>
            <a:ext cx="64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286000" y="9144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t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5562720" y="9144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355680" y="1295280"/>
            <a:ext cx="1854000" cy="91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380880" y="2362320"/>
            <a:ext cx="1854360" cy="91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is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380880" y="3429000"/>
            <a:ext cx="1854360" cy="2971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al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2362320" y="1295280"/>
            <a:ext cx="64008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inimize tot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 Cost = Salaries of Selected Players + Penalties for violating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362320" y="2362320"/>
            <a:ext cx="31543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itchers on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5608800" y="2362320"/>
            <a:ext cx="31543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ielders/batters on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2362320" y="3429000"/>
            <a:ext cx="3154320" cy="2975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d $10b for each violated constra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3 lef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5 righ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1 clo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 inning pitcher exceeds 1,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1 pitcher with over 15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x 4 pitchers with $1m sa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verage rank below sample mean (2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1 pitcher in top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 player can fill more than one spot on ro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5608800" y="3429000"/>
            <a:ext cx="3154320" cy="2975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d $10b for each violated constra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one player at each 8 fielding 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verage rank below sample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least 1 player with more than 30 stolen bases, 30 home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am total must exceed league average for stolen bases and home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 player can fill more than one spot on roster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ptimal team would cost $87,465,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9307-25ED-4EA5-B217-F8851A203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rcRect l="12071" t="15617" r="6898" b="4439"/>
          <a:stretch/>
        </p:blipFill>
        <p:spPr>
          <a:xfrm>
            <a:off x="2808360" y="843120"/>
            <a:ext cx="3973320" cy="30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3480" y="3733920"/>
          <a:ext cx="4538520" cy="249696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812880"/>
                <a:gridCol w="371520"/>
                <a:gridCol w="35244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y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ps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,0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ti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rem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fel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inwr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87,5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n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rigu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95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nath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xt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25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/Clos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s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cec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gh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/Clos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m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648320" y="3733920"/>
          <a:ext cx="4483080" cy="267336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716040"/>
                <a:gridCol w="370080"/>
                <a:gridCol w="39528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ggi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,775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r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a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i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9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bb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y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i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4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br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 / IN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k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ir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6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s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 / 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ir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f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r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0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Straight Connector 15"/>
          <p:cNvSpPr/>
          <p:nvPr/>
        </p:nvSpPr>
        <p:spPr>
          <a:xfrm>
            <a:off x="412920" y="1066680"/>
            <a:ext cx="400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80880" y="8380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t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8"/>
          <p:cNvSpPr/>
          <p:nvPr/>
        </p:nvSpPr>
        <p:spPr>
          <a:xfrm>
            <a:off x="4740120" y="1066680"/>
            <a:ext cx="40071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7696080" y="8380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80880" y="12952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30,575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380880" y="19810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Innings Pitched: 1,8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380880" y="26668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Wins: 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6781680" y="12952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56,89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6781680" y="19810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tolen Bases: 1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6781680" y="26668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Home Ru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 analysis yields several different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DC1C-58C0-4CFA-9456-DF7B09D97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80880" y="990720"/>
            <a:ext cx="83822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Payroll Model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hange objective to minimize rank instead of payr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tal Payroll: $158,133,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3480" y="3848040"/>
          <a:ext cx="4538520" cy="231480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812880"/>
                <a:gridCol w="371520"/>
                <a:gridCol w="3524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l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nand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sh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876,13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chhol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ke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nzal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/Clo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l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49,74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n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ri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5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648320" y="3848040"/>
          <a:ext cx="4483080" cy="247644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716040"/>
                <a:gridCol w="370080"/>
                <a:gridCol w="39528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i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 / D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s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ro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zu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su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gg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75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b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e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j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27,3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in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 /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b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an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66,6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ut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t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Straight Connector 10"/>
          <p:cNvSpPr/>
          <p:nvPr/>
        </p:nvSpPr>
        <p:spPr>
          <a:xfrm>
            <a:off x="412920" y="2028960"/>
            <a:ext cx="400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80880" y="17524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t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4724280" y="2028960"/>
            <a:ext cx="400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4692600" y="17524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3808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70,154,8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24382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Innings Pitched: 1,6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1403280" y="274320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Wins: 1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47242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87,978,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6750000" y="2209680"/>
            <a:ext cx="198108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tolen Bases: 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5742000" y="2743200"/>
            <a:ext cx="198108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Home Ru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 analysis yields several different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FB48-1640-41C4-B780-9F49367C9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80880" y="990720"/>
            <a:ext cx="83822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Payroll Model: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creased penalty for violating all constraints except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tal Payroll: $52,199,2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480" y="3848040"/>
          <a:ext cx="4538520" cy="231480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812880"/>
                <a:gridCol w="371520"/>
                <a:gridCol w="3524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l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nand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rsh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876,13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chhol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ke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nzal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/Clo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l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49,74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n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rigu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5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gh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f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648320" y="3848040"/>
          <a:ext cx="4483080" cy="2476440"/>
        </p:xfrm>
        <a:graphic>
          <a:graphicData uri="http://schemas.openxmlformats.org/drawingml/2006/table">
            <a:tbl>
              <a:tblPr/>
              <a:tblGrid>
                <a:gridCol w="885600"/>
                <a:gridCol w="870120"/>
                <a:gridCol w="723960"/>
                <a:gridCol w="522000"/>
                <a:gridCol w="716040"/>
                <a:gridCol w="370080"/>
                <a:gridCol w="39528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t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i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 / D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s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ro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5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zu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su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gg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75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b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e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j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27,3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tin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l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 /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b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an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66,6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ut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t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00,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Straight Connector 10"/>
          <p:cNvSpPr/>
          <p:nvPr/>
        </p:nvSpPr>
        <p:spPr>
          <a:xfrm>
            <a:off x="412920" y="2028960"/>
            <a:ext cx="400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380880" y="17524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t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2"/>
          <p:cNvSpPr/>
          <p:nvPr/>
        </p:nvSpPr>
        <p:spPr>
          <a:xfrm>
            <a:off x="4724280" y="2028960"/>
            <a:ext cx="400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692600" y="175248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3808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17,599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24382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Innings Pitched: 1,5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1403280" y="274320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Winning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4724280" y="2209680"/>
            <a:ext cx="198144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alary: $34,599,7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6750000" y="2209680"/>
            <a:ext cx="198108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Stolen Bas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5715000" y="2743200"/>
            <a:ext cx="1981080" cy="457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otal Home Run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75760" cy="476280"/>
          </a:xfrm>
          <a:prstGeom prst="rect">
            <a:avLst/>
          </a:prstGeom>
          <a:solidFill>
            <a:srgbClr val="edef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 comparison shows improved statistics with higher payro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E21F-4A41-4BB5-98E1-C5FDFB04D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2" descr=""/>
          <p:cNvPicPr/>
          <p:nvPr/>
        </p:nvPicPr>
        <p:blipFill>
          <a:blip r:embed="rId1"/>
          <a:srcRect l="10783" t="2815" r="20196" b="8706"/>
          <a:stretch/>
        </p:blipFill>
        <p:spPr>
          <a:xfrm>
            <a:off x="1600200" y="765000"/>
            <a:ext cx="6896160" cy="5026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3" descr=""/>
          <p:cNvPicPr/>
          <p:nvPr/>
        </p:nvPicPr>
        <p:blipFill>
          <a:blip r:embed="rId2"/>
          <a:srcRect l="19788" t="90330" r="28859" b="3232"/>
          <a:stretch/>
        </p:blipFill>
        <p:spPr>
          <a:xfrm>
            <a:off x="2438280" y="6095880"/>
            <a:ext cx="426744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23:27:24Z</dcterms:created>
  <dc:creator>Marni</dc:creator>
  <dc:description/>
  <dc:language>en-US</dc:language>
  <cp:lastModifiedBy>Rakesh Duggal</cp:lastModifiedBy>
  <dcterms:modified xsi:type="dcterms:W3CDTF">2009-12-09T17:44:11Z</dcterms:modified>
  <cp:revision>106</cp:revision>
  <dc:subject/>
  <dc:title>Slide 1</dc:title>
</cp:coreProperties>
</file>